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722D3-D099-4707-A114-CABF25013F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C3023-1571-4D54-923F-F716BAA4C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2E735B-DEC5-428D-BAC6-0D11FA56F0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ABA72-A1E0-41E0-AC8E-4597C5388E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69A0CC-ED31-42F9-AE0E-402CBB6B19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700236-3084-4882-BFEB-055B3E5B3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F7368A-4B1D-490A-A685-9EC6A95A57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BFAD-7C5B-42A5-8587-A4572EB0A6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3CB3-40A1-452C-8A14-59722EC4D2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99C7CE-9DD3-4E91-ABE6-F8DE6F810B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A31EA1-330C-4551-A5EB-8F32CDB7EC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852E3-B7CD-43FD-8307-4B64BFB605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F5ED9B-DEE4-4E06-9D61-551FCF2CD0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D5CE40-21C3-4E62-BEA3-66AE2A0994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F3EB6D-D9FA-43F3-AA6D-80BFFEBD6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BF8B18-B15C-498F-A306-FEC75544FC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18960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97960" y="137124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38088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18960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97960" y="3679920"/>
            <a:ext cx="26744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9A785F-97F7-4651-B15C-3513E13511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B4DDD-AE06-4EBC-A467-C5002049F3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28ED9-74BF-4612-B266-D9FF246BAE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78322-5D94-4E20-BDD4-02369C9A9E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380880" y="304560"/>
            <a:ext cx="8305920" cy="459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EAFFE-0E51-4C71-BBB8-58D7C7D399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6C8C0-783D-4B38-85FF-18923941A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37160" y="367992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9EEDE-7394-4D1D-AECD-91AB367F79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8088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37160" y="1371240"/>
            <a:ext cx="405324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380880" y="3679920"/>
            <a:ext cx="8305920" cy="2108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D16B9-538F-4D65-9B2D-0D7643801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2c0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2"/>
          <p:cNvSpPr/>
          <p:nvPr/>
        </p:nvSpPr>
        <p:spPr>
          <a:xfrm>
            <a:off x="7848720" y="0"/>
            <a:ext cx="0" cy="6858000"/>
          </a:xfrm>
          <a:prstGeom prst="line">
            <a:avLst/>
          </a:prstGeom>
          <a:ln w="38160">
            <a:solidFill>
              <a:srgbClr val="4d6378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" name="Rectangle 3"/>
          <p:cNvSpPr/>
          <p:nvPr/>
        </p:nvSpPr>
        <p:spPr>
          <a:xfrm>
            <a:off x="7924680" y="0"/>
            <a:ext cx="7632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8077320" y="0"/>
            <a:ext cx="1066680" cy="6858000"/>
          </a:xfrm>
          <a:prstGeom prst="rect">
            <a:avLst/>
          </a:prstGeom>
          <a:solidFill>
            <a:srgbClr val="4d637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5331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2971440" y="6400440"/>
            <a:ext cx="289548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629400" y="6400440"/>
            <a:ext cx="190512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A82CC2-3A71-455A-9B85-2AFA91C9D114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" name="Picture 10" descr="C:\pptwork\801\편집배경용\배경화면9우상.png"/>
          <p:cNvPicPr/>
          <p:nvPr/>
        </p:nvPicPr>
        <p:blipFill>
          <a:blip r:embed="rId2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ff"/>
            </a:gs>
            <a:gs pos="100000">
              <a:srgbClr val="5578a3"/>
            </a:gs>
          </a:gsLst>
          <a:lin ang="189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2" descr="C:\pptwork\801\편집배경용\배경화면9좌하.png"/>
          <p:cNvPicPr/>
          <p:nvPr/>
        </p:nvPicPr>
        <p:blipFill>
          <a:blip r:embed="rId2"/>
          <a:stretch/>
        </p:blipFill>
        <p:spPr>
          <a:xfrm>
            <a:off x="0" y="4748040"/>
            <a:ext cx="3048120" cy="2109960"/>
          </a:xfrm>
          <a:prstGeom prst="rect">
            <a:avLst/>
          </a:prstGeom>
          <a:ln w="0">
            <a:noFill/>
          </a:ln>
        </p:spPr>
      </p:pic>
      <p:pic>
        <p:nvPicPr>
          <p:cNvPr id="46" name="Picture 3" descr="C:\pptwork\801\편집배경용\배경화면9벌집들.png"/>
          <p:cNvPicPr/>
          <p:nvPr/>
        </p:nvPicPr>
        <p:blipFill>
          <a:blip r:embed="rId3"/>
          <a:stretch/>
        </p:blipFill>
        <p:spPr>
          <a:xfrm>
            <a:off x="0" y="0"/>
            <a:ext cx="4543560" cy="6858000"/>
          </a:xfrm>
          <a:prstGeom prst="rect">
            <a:avLst/>
          </a:prstGeom>
          <a:ln w="0">
            <a:noFill/>
          </a:ln>
        </p:spPr>
      </p:pic>
      <p:pic>
        <p:nvPicPr>
          <p:cNvPr id="47" name="Picture 9" descr="C:\pptwork\801\편집배경용\배경화면9우상.png"/>
          <p:cNvPicPr/>
          <p:nvPr/>
        </p:nvPicPr>
        <p:blipFill>
          <a:blip r:embed="rId4"/>
          <a:stretch/>
        </p:blipFill>
        <p:spPr>
          <a:xfrm>
            <a:off x="7451640" y="0"/>
            <a:ext cx="1692360" cy="94788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-윤명조240"/>
              </a:rPr>
              <a:t>Click to edit the title text format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380880" y="1371240"/>
            <a:ext cx="8305920" cy="441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Click to edit the outline text format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1" marL="743040" indent="-28584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con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2" marL="11430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Third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3" marL="16002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our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4" marL="2057400" indent="-228600">
              <a:spcBef>
                <a:spcPts val="550"/>
              </a:spcBef>
              <a:buClr>
                <a:srgbClr val="160a44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Fif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5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ix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lvl="6" marL="2057400" indent="-228600">
              <a:spcBef>
                <a:spcPts val="550"/>
              </a:spcBef>
              <a:buClr>
                <a:srgbClr val="000000"/>
              </a:buClr>
              <a:buFont typeface="-윤명조240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-윤명조240"/>
              </a:rPr>
              <a:t>Seventh Outline Level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dt" idx="4"/>
          </p:nvPr>
        </p:nvSpPr>
        <p:spPr>
          <a:xfrm>
            <a:off x="19047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ftr" idx="5"/>
          </p:nvPr>
        </p:nvSpPr>
        <p:spPr>
          <a:xfrm>
            <a:off x="4038120" y="6400440"/>
            <a:ext cx="266724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sldNum" idx="6"/>
          </p:nvPr>
        </p:nvSpPr>
        <p:spPr>
          <a:xfrm>
            <a:off x="6933960" y="6400440"/>
            <a:ext cx="190476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8C47EC-453F-4B45-AB7E-85AECCAF001A}" type="slidenum">
              <a:rPr b="0" lang="en-US" sz="1400" spc="-1" strike="noStrike">
                <a:solidFill>
                  <a:srgbClr val="000000"/>
                </a:solidFill>
                <a:latin typeface="-윤명조240"/>
                <a:ea typeface="-윤명조240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066320" y="1371240"/>
            <a:ext cx="7620120" cy="1981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)</a:t>
            </a: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방법을 통한 </a:t>
            </a:r>
            <a:br>
              <a:rPr sz="4400"/>
            </a:b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태도 연구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676160" y="5029200"/>
            <a:ext cx="7010280" cy="1295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발표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·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사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indent="0" algn="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균관대</a:t>
            </a:r>
            <a:r>
              <a:rPr b="0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44316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에 대한 서울시민의 지지계층 유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을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Lo-Mendell-Rubin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조정우도비 검증결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현실적인 해석가능성을 고려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집단의 명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beling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66.0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1.5%)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2.4%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설문문항에 응답할 조건부 확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conditional probabil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입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뒷장 참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431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9" name=""/>
          <p:cNvGraphicFramePr/>
          <p:nvPr/>
        </p:nvGraphicFramePr>
        <p:xfrm>
          <a:off x="914400" y="2666880"/>
          <a:ext cx="6705720" cy="1901880"/>
        </p:xfrm>
        <a:graphic>
          <a:graphicData uri="http://schemas.openxmlformats.org/drawingml/2006/table">
            <a:tbl>
              <a:tblPr/>
              <a:tblGrid>
                <a:gridCol w="776160"/>
                <a:gridCol w="776520"/>
                <a:gridCol w="635040"/>
                <a:gridCol w="706320"/>
                <a:gridCol w="1200240"/>
                <a:gridCol w="514080"/>
                <a:gridCol w="725760"/>
                <a:gridCol w="726840"/>
                <a:gridCol w="644760"/>
              </a:tblGrid>
              <a:tr h="365400"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</a:t>
                      </a:r>
                      <a:r>
                        <a:rPr b="0" lang="en-US" sz="12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df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row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BIC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oung-Lo-Mendell-Rubin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Lo-Mendell-Rubin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의 조정우도비검증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333399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5479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H0 Loglikelihood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2L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p-valu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333399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267.5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,5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70.5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2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7,13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4722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97.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471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154.7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6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473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1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09.5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0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집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38.0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9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6,39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33165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6.7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6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3.4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0.07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12240">
                      <a:solidFill>
                        <a:srgbClr val="000000"/>
                      </a:solidFill>
                    </a:lnB>
                    <a:solidFill>
                      <a:srgbClr val="ffff00"/>
                    </a:solidFill>
                  </a:tcPr>
                </a:tc>
              </a:tr>
            </a:tbl>
          </a:graphicData>
        </a:graphic>
      </p:graphicFrame>
      <p:sp>
        <p:nvSpPr>
          <p:cNvPr id="110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1" name="Object 56" descr=""/>
          <p:cNvPicPr/>
          <p:nvPr/>
        </p:nvPicPr>
        <p:blipFill>
          <a:blip r:embed="rId1"/>
          <a:stretch/>
        </p:blipFill>
        <p:spPr>
          <a:xfrm>
            <a:off x="1371600" y="3886200"/>
            <a:ext cx="228600" cy="22860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560" y="380880"/>
            <a:ext cx="830556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3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개 잠재집단의 조건부 응답확률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13" name=""/>
          <p:cNvGraphicFramePr/>
          <p:nvPr/>
        </p:nvGraphicFramePr>
        <p:xfrm>
          <a:off x="609480" y="1066680"/>
          <a:ext cx="6705720" cy="5813640"/>
        </p:xfrm>
        <a:graphic>
          <a:graphicData uri="http://schemas.openxmlformats.org/drawingml/2006/table">
            <a:tbl>
              <a:tblPr/>
              <a:tblGrid>
                <a:gridCol w="2082960"/>
                <a:gridCol w="2082600"/>
                <a:gridCol w="846360"/>
                <a:gridCol w="847800"/>
                <a:gridCol w="846000"/>
              </a:tblGrid>
              <a:tr h="257760">
                <a:tc gridSpan="2" row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1" lang="ko-KR" sz="16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에 대한 쟁점 지표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3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잠재계층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Latent Class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4400">
                      <a:solidFill>
                        <a:srgbClr val="000000"/>
                      </a:solidFill>
                    </a:lnT>
                    <a:lnB w="10800">
                      <a:solidFill>
                        <a:srgbClr val="0000ff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996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 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지지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10800">
                      <a:solidFill>
                        <a:srgbClr val="0000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7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5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7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7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4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8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5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0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9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0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4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7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38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1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58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5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8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1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171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02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638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70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23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317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300" spc="-1" strike="noStrike">
                          <a:solidFill>
                            <a:srgbClr val="ff0000"/>
                          </a:solidFill>
                          <a:latin typeface="휴먼모음T"/>
                          <a:ea typeface="휴먼모음T"/>
                        </a:rPr>
                        <a:t>.49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8880">
                <a:tc gridSpan="2"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할당사례수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757.9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66.0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551.6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1.5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894.0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3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12.4)</a:t>
                      </a:r>
                      <a:endParaRPr b="0" lang="en-US" sz="13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440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/>
          </p:nvPr>
        </p:nvSpPr>
        <p:spPr>
          <a:xfrm>
            <a:off x="304560" y="456840"/>
            <a:ext cx="8305560" cy="2133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구조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경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,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↗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 등이 주시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6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pic>
        <p:nvPicPr>
          <p:cNvPr id="117" name="차트 4" descr=""/>
          <p:cNvPicPr/>
          <p:nvPr/>
        </p:nvPicPr>
        <p:blipFill>
          <a:blip r:embed="rId1"/>
          <a:stretch/>
        </p:blipFill>
        <p:spPr>
          <a:xfrm>
            <a:off x="378000" y="2432160"/>
            <a:ext cx="7705440" cy="4279680"/>
          </a:xfrm>
          <a:prstGeom prst="rect">
            <a:avLst/>
          </a:prstGeom>
          <a:ln w="0">
            <a:noFill/>
          </a:ln>
        </p:spPr>
      </p:pic>
    </p:spTree>
  </p:cSld>
  <p:transition>
    <p:pull dir="r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19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838080" y="1295280"/>
          <a:ext cx="6934320" cy="5281560"/>
        </p:xfrm>
        <a:graphic>
          <a:graphicData uri="http://schemas.openxmlformats.org/drawingml/2006/table">
            <a:tbl>
              <a:tblPr/>
              <a:tblGrid>
                <a:gridCol w="1068480"/>
                <a:gridCol w="857160"/>
                <a:gridCol w="943200"/>
                <a:gridCol w="411120"/>
                <a:gridCol w="944640"/>
                <a:gridCol w="409320"/>
                <a:gridCol w="944640"/>
                <a:gridCol w="409680"/>
                <a:gridCol w="677880"/>
                <a:gridCol w="26820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6208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9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3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5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8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2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3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35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7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008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68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13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76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7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88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2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97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1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3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4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942840" y="1295280"/>
          <a:ext cx="6829560" cy="5270760"/>
        </p:xfrm>
        <a:graphic>
          <a:graphicData uri="http://schemas.openxmlformats.org/drawingml/2006/table">
            <a:tbl>
              <a:tblPr/>
              <a:tblGrid>
                <a:gridCol w="1047960"/>
                <a:gridCol w="841320"/>
                <a:gridCol w="974880"/>
                <a:gridCol w="353880"/>
                <a:gridCol w="927000"/>
                <a:gridCol w="401760"/>
                <a:gridCol w="954000"/>
                <a:gridCol w="374760"/>
                <a:gridCol w="681120"/>
                <a:gridCol w="272880"/>
              </a:tblGrid>
              <a:tr h="304920">
                <a:tc gridSpan="2" rowSpan="2">
                  <a:txBody>
                    <a:bodyPr lIns="34920" rIns="34920" tIns="9720" bIns="972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부동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4300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7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4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1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4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0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9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rowSpan="3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1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0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8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3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3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1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68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152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7296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39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0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49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7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1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56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1.26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31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920" rIns="34920" tIns="9720" bIns="972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42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71440"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920" rIns="34920" tIns="9720" bIns="972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920" marR="3492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2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/>
          </p:nvPr>
        </p:nvSpPr>
        <p:spPr>
          <a:xfrm>
            <a:off x="304560" y="457200"/>
            <a:ext cx="8305560" cy="914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유형 결정요인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지지층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2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29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sp>
        <p:nvSpPr>
          <p:cNvPr id="130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31" name=""/>
          <p:cNvGraphicFramePr/>
          <p:nvPr/>
        </p:nvGraphicFramePr>
        <p:xfrm>
          <a:off x="914400" y="1295280"/>
          <a:ext cx="6858000" cy="5281560"/>
        </p:xfrm>
        <a:graphic>
          <a:graphicData uri="http://schemas.openxmlformats.org/drawingml/2006/table">
            <a:tbl>
              <a:tblPr/>
              <a:tblGrid>
                <a:gridCol w="1052640"/>
                <a:gridCol w="844560"/>
                <a:gridCol w="922320"/>
                <a:gridCol w="412560"/>
                <a:gridCol w="959040"/>
                <a:gridCol w="374400"/>
                <a:gridCol w="920880"/>
                <a:gridCol w="414360"/>
                <a:gridCol w="666720"/>
                <a:gridCol w="290520"/>
              </a:tblGrid>
              <a:tr h="274680">
                <a:tc gridSpan="2" rowSpan="2">
                  <a:txBody>
                    <a:bodyPr lIns="34200" rIns="34200" tIns="9360" bIns="9360" anchor="ctr">
                      <a:noAutofit/>
                    </a:bodyPr>
                    <a:p>
                      <a:pPr marL="12708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변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8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확대지지층 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vs.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잔여복지지층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2240">
                      <a:solidFill>
                        <a:srgbClr val="000000"/>
                      </a:solidFill>
                    </a:lnT>
                    <a:lnB w="13680">
                      <a:solidFill>
                        <a:srgbClr val="3333cc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58840"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모형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3333cc"/>
                      </a:solidFill>
                    </a:lnT>
                    <a:lnB w="864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성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77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1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86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0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01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0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년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6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20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2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1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미취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04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3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월평균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로그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7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rowSpan="3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일용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58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3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5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24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84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38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회보험수급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경험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.206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14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4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민간보험가입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가입자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-.18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097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+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14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9204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상수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0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630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66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.979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492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.15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.276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34200" rIns="34200" tIns="9360" bIns="936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14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568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사례수</a:t>
                      </a: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df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,204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605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0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0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,175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2,659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,99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5,461)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504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232200"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marL="254160"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F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64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4.01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.07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34200" rIns="34200" tIns="9360" bIns="936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7.33</a:t>
                      </a:r>
                      <a:r>
                        <a:rPr b="0" lang="en-US" sz="1400" spc="-1" strike="noStrike" baseline="30000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***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34200" marR="34200">
                    <a:lnL>
                      <a:noFill/>
                    </a:lnL>
                    <a:lnR>
                      <a:noFill/>
                    </a:lnR>
                    <a:lnT w="5040">
                      <a:solidFill>
                        <a:srgbClr val="000000"/>
                      </a:solidFill>
                    </a:lnT>
                    <a:lnB w="1080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132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</p:spTree>
  </p:cSld>
  <p:transition>
    <p:pull dir="r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5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요약 및 논의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304920" y="1294920"/>
            <a:ext cx="85341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가지 유형의 지지계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서울시민의 복지정책에 대한 비일관적 태도 이면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정한 패턴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확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복지 지지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부동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많은 복지확대 지지층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체 서울시민의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/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 복지확대 지지층으로 분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가능성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이러한 지지가 정치적 행위로 이어질지는 의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와 정치적 행위간에는 불일치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화 과정에 수많은 억제요인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규범적인 복지태도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 제도적 이해관계가 작동할 가능성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1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과 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가 주요한 변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가 개인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self-interest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다는 규범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ormal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으로 결정되는 경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적 문제일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대상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 및 미취업자의 비율이 높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고령 및 민간보험가입자의 복지태도가 부정적이라는 면에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향후 복지제도의 확대에 따른 제도적 이해관계가 작동할 가능성이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8844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4495680"/>
            <a:ext cx="7619760" cy="1981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감사합니다</a:t>
            </a:r>
            <a:r>
              <a:rPr b="1" lang="en-US" sz="4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4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1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문제제기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04560" y="1371240"/>
            <a:ext cx="8305560" cy="5181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발전의 다양성은 정치적 선택의 차이에서 비롯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홍경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9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-318960">
              <a:lnSpc>
                <a:spcPct val="100000"/>
              </a:lnSpc>
              <a:spcBef>
                <a:spcPts val="499"/>
              </a:spcBef>
              <a:buClr>
                <a:srgbClr val="160a44"/>
              </a:buClr>
              <a:buFont typeface="휴먼모음T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치적 선택은 개인의 이해관계나 인식이 기초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welfare attitude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이것이 반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로 인해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계적으로 복지태도에 대한 연구 급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도 마찬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국내의 기존 연구들에서 특기할 사항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정의하고 측정하는 방식이 다양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정책대상은 매우 다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ex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분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 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근 점차 수렴해 가는 양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문제는 이를 종합하는 방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-윤명조240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단순합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격이 다른 문제를 하나로 측정하는 것의 문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Kangas, 1997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②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별적으로 다룬 후 종합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의 이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균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류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0),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의 제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정책대상별로 태도가 다양한 것이 당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오히려 다양성을 전제하고 그 안에서 패턴을 찾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1896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304560" y="914400"/>
            <a:ext cx="8305560" cy="541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를 설명하는 기존 이론에 부합하지 않는 한국의 현실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원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?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정책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작적 정의 및 연구대상의 다양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러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국의 복지발전 양상이 서구와 다르기 때문일 수도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이러한 상황에서는 한국사회의 현실을 있는 그대로 파악하는 노력이 필요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차별적 접근방식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귀납적 방식에 입각한 접근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조사된 자료를 바탕으로 현실을 객관적으로 파악하려는 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련의 복지정책 쟁점들에 대한 사람들의 경향적 반응을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비일관적인 태도에도 일정한 패턴이 있을 수 있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그리고 이것이 집단화되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하나의 계층을 구성할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◈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의 목적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atent Class Analysi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활용해 서울시민의 복지정책에 대한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 및 구조를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326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2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복지정책의 쟁점과 지지계층 구별요인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304560" y="1447920"/>
            <a:ext cx="8305560" cy="4876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쟁점의 선별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태도는 평가적 반응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따라서 평가의 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영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명확히 해야 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국가 연구에서 가장 고전적인 정책쟁점으로부터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쟁점영역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평등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장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 정책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잔여적 복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vs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복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	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대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에게 복지혜택을 주는 것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급여제한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부담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를 통한 재정확대에 대한 입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8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8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04920" y="1295280"/>
            <a:ext cx="861048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기존 이론들로부터 지지계층의 유형을 구별할 것으로 예상되는 주요요인을 도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과 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성과 노인은 복지수혜자의 입장이므로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실업 및 소득손실의 위험이 적기 때문에 국가복지 반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주적 가치의 사회화로 인해 관용적 태도를 가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정책 지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제도의 목적에 따라 다른 양상을 보일 것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시장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노동계급은 복지정책에 긍정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3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프로그램과 결부된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new politic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경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수급자는 친복지적 태도를 예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2904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보험은 국가복지의 보완재이자 대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입자는 반복지적 태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3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연구방법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304560" y="1523880"/>
            <a:ext cx="8305560" cy="4648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9000"/>
          </a:bodyPr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자료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차 서울시 복지패널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구대상은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~90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세 이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에 가중치 적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2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측정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태도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5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가지 항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소생활보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빈부격차감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두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범주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통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동의하지 않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로 측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 구별요인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인구사회학적 요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성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연령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역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교육수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경제적 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소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취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종사상지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 이해관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: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회보험수급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민간보험가입여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  <a:p>
            <a:pPr marL="361080" indent="0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160a44"/>
                </a:solidFill>
                <a:latin typeface="HY강B"/>
                <a:ea typeface="HY강B"/>
              </a:rPr>
              <a:t>     </a:t>
            </a:r>
            <a:endParaRPr b="0" lang="en-US" sz="22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00" name=""/>
          <p:cNvGraphicFramePr/>
          <p:nvPr/>
        </p:nvGraphicFramePr>
        <p:xfrm>
          <a:off x="533520" y="1523880"/>
          <a:ext cx="7162560" cy="4876920"/>
        </p:xfrm>
        <a:graphic>
          <a:graphicData uri="http://schemas.openxmlformats.org/drawingml/2006/table">
            <a:tbl>
              <a:tblPr/>
              <a:tblGrid>
                <a:gridCol w="990360"/>
                <a:gridCol w="457200"/>
                <a:gridCol w="838440"/>
                <a:gridCol w="4876560"/>
              </a:tblGrid>
              <a:tr h="381240"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설명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측정변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조작적 정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401400">
                <a:tc rowSpan="6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인구학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요인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성별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남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여성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연령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이상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~ 90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세 미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역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1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울시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관할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62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구분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2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5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 광역군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남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서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동북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도심권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 row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수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 row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교육연수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noFill/>
                  </a:tcPr>
                </a:tc>
              </a:tr>
              <a:tr h="401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gridSpan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vMerge="1"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 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: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재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휴학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수료는 각 학력별 교육연수의 중간값 부여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>
                      <a:noFill/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3200">
                <a:tc rowSpan="3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경제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소득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개인 월평균 소득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연대수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비취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종사상지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임시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/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일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기준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상용직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고용주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자영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무급가족종사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.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400">
                <a:tc rowSpan="2">
                  <a:txBody>
                    <a:bodyPr lIns="9360" rIns="93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제도적</a:t>
                      </a:r>
                      <a:br>
                        <a:rPr sz="1600"/>
                      </a:b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이해관계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사회보험수급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없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경험있음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288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01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360" rIns="9360" tIns="9360" bIns="0" anchor="ctr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민간보험가입여부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>
                      <a:noFill/>
                    </a:lnL>
                    <a:lnR w="2880">
                      <a:solidFill>
                        <a:srgbClr val="000000"/>
                      </a:solidFill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360" rIns="9360" tIns="9360" bIns="0" anchor="ctr">
                      <a:noAutofit/>
                    </a:bodyPr>
                    <a:p>
                      <a:pPr algn="just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미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0), </a:t>
                      </a:r>
                      <a:r>
                        <a:rPr b="0" lang="ko-KR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가입</a:t>
                      </a:r>
                      <a:r>
                        <a:rPr b="0" lang="en-US" sz="1600" spc="-1" strike="noStrike">
                          <a:solidFill>
                            <a:srgbClr val="16165d"/>
                          </a:solidFill>
                          <a:latin typeface="휴먼모음T"/>
                          <a:ea typeface="휴먼모음T"/>
                        </a:rPr>
                        <a:t>(1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 marL="9360" marR="9360">
                    <a:lnL w="2880">
                      <a:solidFill>
                        <a:srgbClr val="000000"/>
                      </a:solidFill>
                    </a:lnL>
                    <a:lnR>
                      <a:noFill/>
                    </a:lnR>
                    <a:lnT w="288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305920" cy="609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※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참고</a:t>
            </a:r>
            <a:r>
              <a:rPr b="0" lang="en-US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:  </a:t>
            </a:r>
            <a:r>
              <a:rPr b="0" lang="ko-KR" sz="2400" spc="-1" strike="noStrike">
                <a:solidFill>
                  <a:srgbClr val="160a44"/>
                </a:solidFill>
                <a:latin typeface="HY수평선B"/>
                <a:ea typeface="HY수평선B"/>
              </a:rPr>
              <a:t>지지계층유형 구별요인 조작적 정의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/>
          </p:nvPr>
        </p:nvSpPr>
        <p:spPr>
          <a:xfrm>
            <a:off x="304560" y="914040"/>
            <a:ext cx="83055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분석전략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1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 파악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잠재집단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CA, Latent Class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장점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a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모형검증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odel fit statistics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를 통해 잠재집단의 수를 귀납적으로 결정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b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범주형 자료에 활용가능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선형성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linearity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을 가정하지 않아도 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  </a:t>
            </a:r>
            <a:r>
              <a:rPr b="0" lang="en-US" sz="2000" spc="-1" strike="noStrike">
                <a:solidFill>
                  <a:srgbClr val="160a44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유형화 방식에 적합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사실 복지태도가 선형적이라 가정할 필요는 없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)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유형의 구조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항 로지스틱 회귀분석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multinominal logistic regression analysis)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지지계층의 유형이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3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개 이상인 경우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계층유형을 결정하는 요인을 파악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    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다만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본 연구에서는 탐색적인 차원에서 다루어지는 것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</p:spTree>
  </p:cSld>
  <p:transition>
    <p:pull dir="r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304560"/>
            <a:ext cx="8305920" cy="990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4. </a:t>
            </a:r>
            <a:r>
              <a:rPr b="0" lang="ko-KR" sz="3200" spc="-1" strike="noStrike">
                <a:solidFill>
                  <a:srgbClr val="160a44"/>
                </a:solidFill>
                <a:latin typeface="HY수평선B"/>
                <a:ea typeface="HY수평선B"/>
              </a:rPr>
              <a:t>분석결과</a:t>
            </a:r>
            <a:endParaRPr b="0" lang="en-US" sz="3200" spc="-1" strike="noStrike">
              <a:solidFill>
                <a:srgbClr val="160a44"/>
              </a:solidFill>
              <a:latin typeface="-윤명조240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04560" y="1523520"/>
            <a:ext cx="8305560" cy="2057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45720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1) </a:t>
            </a:r>
            <a:r>
              <a:rPr b="1" lang="ko-KR" sz="24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일반적 특성</a:t>
            </a:r>
            <a:endParaRPr b="0" lang="en-US" sz="24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전반적으로 최저생활보장과 빈부격차감소에 동의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한시적 급여는 반대가 강한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중산층포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,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재정확대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증세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에 대해서는 찬반비율이 비슷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최저생활보장과 포괄적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보편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제도적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복지를 놓고 의견의 차이가 존재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  <a:p>
            <a:pPr marL="45720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  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- 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김영순</a:t>
            </a:r>
            <a:r>
              <a:rPr b="0" lang="en-US" sz="2000" spc="-1" strike="noStrike">
                <a:solidFill>
                  <a:srgbClr val="160a44"/>
                </a:solidFill>
                <a:latin typeface="Arial"/>
                <a:ea typeface="휴먼모음T"/>
              </a:rPr>
              <a:t>·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여유진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(2008)</a:t>
            </a:r>
            <a:r>
              <a:rPr b="0" lang="ko-KR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처럼 복지태도의 비일관성이 관찰됨</a:t>
            </a:r>
            <a:r>
              <a:rPr b="0" lang="en-US" sz="2000" spc="-1" strike="noStrike">
                <a:solidFill>
                  <a:srgbClr val="160a44"/>
                </a:solidFill>
                <a:latin typeface="휴먼모음T"/>
                <a:ea typeface="휴먼모음T"/>
              </a:rPr>
              <a:t>.</a:t>
            </a:r>
            <a:endParaRPr b="0" lang="en-US" sz="2000" spc="-1" strike="noStrike">
              <a:solidFill>
                <a:srgbClr val="160a44"/>
              </a:solidFill>
              <a:latin typeface="-윤명조240"/>
            </a:endParaRPr>
          </a:p>
        </p:txBody>
      </p:sp>
      <p:graphicFrame>
        <p:nvGraphicFramePr>
          <p:cNvPr id="105" name=""/>
          <p:cNvGraphicFramePr/>
          <p:nvPr/>
        </p:nvGraphicFramePr>
        <p:xfrm>
          <a:off x="838080" y="3581280"/>
          <a:ext cx="3429000" cy="292572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232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한시적 급여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55.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7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7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최소생활보장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3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9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중산층포괄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1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9.3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23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8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6" name="Rectangle 1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굴림"/>
            </a:endParaRPr>
          </a:p>
        </p:txBody>
      </p:sp>
      <p:graphicFrame>
        <p:nvGraphicFramePr>
          <p:cNvPr id="107" name=""/>
          <p:cNvGraphicFramePr/>
          <p:nvPr/>
        </p:nvGraphicFramePr>
        <p:xfrm>
          <a:off x="4343400" y="3581280"/>
          <a:ext cx="3429000" cy="2057400"/>
        </p:xfrm>
        <a:graphic>
          <a:graphicData uri="http://schemas.openxmlformats.org/drawingml/2006/table">
            <a:tbl>
              <a:tblPr/>
              <a:tblGrid>
                <a:gridCol w="1447920"/>
                <a:gridCol w="1143000"/>
                <a:gridCol w="838080"/>
              </a:tblGrid>
              <a:tr h="293760">
                <a:tc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복지정책쟁점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응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비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aae2ca"/>
                    </a:solidFill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빈부격차감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12.6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25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52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62.2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rowSpan="3">
                  <a:txBody>
                    <a:bodyPr lIns="0" rIns="0" tIns="0" bIns="0" anchor="ctr">
                      <a:noAutofit/>
                    </a:bodyPr>
                    <a:p>
                      <a:pPr marL="380880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재정확대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(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증세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)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하지 않음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0.0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76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보통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1.1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34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just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 </a:t>
                      </a:r>
                      <a:r>
                        <a:rPr b="0" lang="ko-KR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동의함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r">
                        <a:lnSpc>
                          <a:spcPct val="16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휴먼모음T"/>
                          <a:ea typeface="휴먼모음T"/>
                        </a:rPr>
                        <a:t>38.9 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굴림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p:transition>
    <p:pull dir="r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7-18T23:57:34Z</dcterms:created>
  <dc:creator>정윤주</dc:creator>
  <dc:description/>
  <dc:language>en-US</dc:language>
  <cp:lastModifiedBy>김사일</cp:lastModifiedBy>
  <dcterms:modified xsi:type="dcterms:W3CDTF">2010-02-18T05:09:59Z</dcterms:modified>
  <cp:revision>131</cp:revision>
  <dc:subject/>
  <dc:title>PowerPoint 프레젠테이션</dc:title>
</cp:coreProperties>
</file>